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02B-1096-4F5B-8AF5-20F016D4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4CF-581B-4C77-ADAD-86D32FD3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F7BCC-E4D8-4755-8C03-4F2C284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9C0A0-66D3-4983-9B6C-A2990C5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6FE72-C8DF-49D0-83E5-1FA7D43C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22BBA7-825E-424C-9995-DFC7AC7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2EF6C-09B3-4481-8851-E6F9A3A3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83940-3213-48DA-AF22-B720475C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E8BAF-538D-4ECB-ACB3-84D7DC55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C9A161-BC3A-48D6-889C-733CDAB9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3AF61-64B5-472F-9666-0C839979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428-9744-43C2-87E1-1971F1B3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DC2-220B-457E-9DA8-56E0D587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9B010-FBF0-42DF-9C60-2B83BACD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7F878-DF27-49F6-9086-5C35B286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05D6A-EC8B-4C57-87DD-C82D1157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1941E-11C7-482D-8242-3A0C85A7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A0A90-846E-460B-949E-424ADCFB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31624-8AA8-4D4C-A0C3-AF4E3C1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79037-8B0E-47C3-9D5F-BABBB0CF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B57-7DB7-419A-B2D9-3AB37A34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5CB06-4410-4605-8206-4B589522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FE1EE-0D08-473B-8082-42A2E53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C8831-C905-4EA6-8780-EE9984B6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E5CD-968A-4755-8676-1FCBE6AB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F4F87-42F3-42D8-8471-B94C7F03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2136-6C22-4116-B852-92C92536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9F38-D890-4851-BA9D-DB094603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94E7-6543-4DAE-AF98-4DBCF4BB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5ABC-5CE6-420C-8D3C-45A399EB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298A-0FD7-441F-BF1C-5DC8A6EE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906-03D5-4059-9C50-4C543785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82A2-A399-4652-9155-6CD4767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CA92-7646-4577-A5BB-60A6B329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EBDF-A310-42F9-A970-FAD8321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7E210-917E-43F7-854E-E786C35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D7BB-D7F0-4FDF-B4EC-CCAC31C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357C-F105-4A46-87B4-BCD923A3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EB89-7D9B-49FE-B2CE-37E999D2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5B8E0-1412-45EF-BF43-81254CA4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C6D2E-37D8-4776-8284-30988B8C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CE9E6-91DE-47C9-B251-8D1CF838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C1D-F10D-43EE-966F-8FE8418D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85881-93C4-4668-8B47-C510B99A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0C48F-6171-4D5C-9EF7-CF7B44C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8C844-0672-4897-B28E-01D11D01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E2807-3990-4F04-8D36-8B3A9BF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D3A55-D912-442F-A605-3696DDEE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94484-6373-476D-8FA3-783BA79D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6670A-5F7D-4528-85E8-372AFD6E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1FBFD-E7AA-4CEA-83D3-323A8CE9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2D47E-8150-44E0-BDF6-EF7BF9F6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437F-92AF-40AB-B31D-29143414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BB8-7435-4E11-8126-1A8894D1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8757-40DE-4AC9-B653-7472889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6EB1-61C6-4B60-A92F-759D49A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F276-8C37-4BD8-B954-1273515E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D364-60DA-45AB-B10D-7D3A593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4B38-2B3C-48A0-AFCB-A0C1062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8BDB9-8428-46B1-80A0-FE2FA3C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1DAA2-76EB-4458-870F-CF18F74C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1B83-1C1F-416C-850F-D9238652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988B2-DF66-4129-B701-F3470065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5DB3-2BD0-480F-A641-43300B01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54A-2107-45E0-9977-62550C2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1AFF-E9FF-4ABE-B2C3-C46BFE1B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177E-4382-4A11-8E6D-35C94BEA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0918-5CB2-43C2-925D-E2485184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92A08-8B44-49E2-A47D-15F9BD29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BEC18-252F-44B9-AD13-3F531CB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58A5F-F590-4416-BFA3-37D3EB88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7BF9-76CD-40AD-A200-126667FE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9DB2-8C2E-4F3A-BABD-01A4ADB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5A3C-FDA9-4490-AFC2-CA798C8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CABE-651A-4B1F-9C5F-E18546A3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F06-76FB-4792-B550-1D420753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11ED-E381-44D5-8919-8DC2F882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997DA-5810-43FE-B759-A1AB9AFE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1577E-BB0E-41A2-B3F6-FD6E8102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8DB7-01A7-47F0-BCA3-CBE4F978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8281A-D2FD-43DB-B23E-0ACF09BE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EFD9-F4EF-451D-BEB3-8D6B038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630D-F477-4551-BD39-3B9E157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C249A-6263-46C6-84B0-826F230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284AB-EFD9-4422-951D-62D84BE5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896A-1340-41B7-94F9-A7ED0CE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4B0-2EB5-4A60-BA49-482897E0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70D9-8416-4CC7-8BD6-18ED15D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2DC0-7595-4E0A-A77B-149101E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BBEC4-8518-4227-8D7D-898BFEB0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7956C-56A2-4E8D-A94F-D66B32D5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DCAF6-4876-43E8-8573-8F4D9096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D3802-51CE-4B5D-810B-0B35C8D8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AD2D9-EC6F-4133-B6D9-1F60309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2A4718-1A37-4968-8BA4-F48761A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D1781-6E78-4CE2-B29E-B2645C7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B0CC6-5CFB-44A5-8571-D0C2EFF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581-443F-4DDE-89AE-02D1287E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FFDBA-570E-4088-8BF4-D0CF0A8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E5534-20C3-4763-A4A9-401845B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3EBCB-A2A8-47CD-A9A8-730FA15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F0CF5-1083-4D25-A0DE-7AC762FE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FF244C-F30D-4BA0-AE5F-C15EA6BD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C0C81A-BF7B-465B-9AB5-2393A3FA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220B2-4A8D-4041-93EB-CB56C827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4F536F-D7F8-451A-8E2E-FA0850F2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F3399-50CA-46C4-B9E5-B5131818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3A557D-9AE6-4AAB-9987-8AA2D94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43E-C5EE-4286-8A56-95A2EC05C9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AAC-05E2-472F-942E-D310F0D8BB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42B2-391D-4D73-BF9E-8A00FF8048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A1A-25E8-48DA-A7C7-8BB13F59824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0F2-3ADE-463D-B25F-F014787F41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4C7-5A31-4A7E-AF6B-6F7BF99EAF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A7EB-FF03-4AAC-A9BC-3C2DCA89E6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4043-6316-4CC8-BC7E-EF377475E0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76BF-75EE-4325-B5A8-12F0FA604A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682560" y="1395360"/>
            <a:ext cx="7918560" cy="22258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361960" y="3580920"/>
            <a:ext cx="6559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2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143000" y="48769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378000" y="22536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 eating inside the cla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ater is the only allowed drink inside the cla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en when somebody is taking his/her turn to tal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4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5867280" y="3809880"/>
            <a:ext cx="2778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udents must check the board and erase the writings on i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ick up pieces of paper.(if possible sweep the room with a b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eck the arrangement of the chai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98440" y="-96840"/>
            <a:ext cx="8626320" cy="1481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 things with a critical mind and an enduring hear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ppreciate difficulties and learn out of th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like/want in a teach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think students should act like in the classroo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 you see mathematic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Quizzes…….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meworks….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ksheets…..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inations…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4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3:08:45Z</dcterms:created>
  <dc:creator>junPC</dc:creator>
  <dc:description/>
  <dc:language>en-US</dc:language>
  <cp:lastModifiedBy>junPC</cp:lastModifiedBy>
  <dcterms:modified xsi:type="dcterms:W3CDTF">2012-10-01T23:37:13Z</dcterms:modified>
  <cp:revision>3</cp:revision>
  <dc:subject/>
  <dc:title>Euls university High school dept. Mr. Gelmo</dc:title>
</cp:coreProperties>
</file>